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0308-F569-43F8-88A2-DCF0E8661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7704-4FBC-4AE8-98BF-1C28B01C35C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EF1B-6B73-4166-8D61-7D894D33FE3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A14D-F5AE-4DEB-9A51-707D6A69A1E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7B70-534C-45CD-80D5-DDD48B6BEDF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F085-756C-47A0-B1C6-4711F0E9914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505D-C0A1-49D0-8D68-73F9C402EF0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3D37-096A-47C8-9720-D59B0C784A3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F81D-2B52-436C-A129-E8B55A68616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403-B769-42B0-8B5B-353E8F7F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E62-DD1F-4EF5-AEBE-ED03F159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894-D452-4B11-A5C0-19717925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2FF7-933A-43FD-B742-8D3D9A38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F6BE-EBF6-4E87-BE5F-80C535CD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009E-A5AD-4C69-8800-110A1B3B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1A7A-7CDD-4FE4-A0BD-488BAB06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19BA-5742-4A45-9536-24103DAD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75AE-98AC-44EA-9ADA-A5010A39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4ED7-9ED2-4C7B-A688-9EE7CDB3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7A23-475F-425F-BFDD-805CBFDC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269-086C-4BC9-8781-01E4AE41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C462-576B-4D86-862F-2CC7E97D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CCF0-AB1A-4987-83F8-EEA035DC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D54C-3EC0-4411-AA09-25C56472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8722-760B-4D73-88EB-FEEAB40D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8CAC-D891-41D7-99A4-02DF2761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8A1ED-9BED-43DE-BDA4-3E133F37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76504-6B0B-4692-AE33-88FBA353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3C4A4-052A-457E-81E0-183BDA14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90339-D560-4A3C-9990-72B45FA4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1A3A4-B78D-452D-944F-CEF4CFEA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A1DC-FF9F-42D3-A80D-017D837D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06D5F-5339-4B2D-AE3A-52682943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642F5-8828-4609-95C6-5E2D4904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7A890-E187-4CA7-AFBA-EA5FCF64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1FE36-91A3-4953-A9B2-598495E5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CBEEB-AF80-448A-A65F-4D06CD6E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D6760-D8F8-4584-AB36-499A4C86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FEBDB-1193-40F7-A4C7-3777FB9B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B2D6-590D-4CB7-8104-D7A28F99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AA8-124D-4BD1-A5DF-BD238AC4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85F-71C1-428B-BFF4-F44BFA32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C92-9327-4160-9623-F6E74B03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382-D174-4714-A991-66EAC7EE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081-CD18-4FE4-A773-0CBE5219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9995-ED07-49A4-890F-241AA827E33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83E2-A662-40C5-A6C2-D7F3DBEE7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BA53-F55D-4340-9E05-D0DA7AF60BF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.gov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ssess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nds in the Classro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ternative assessme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require active construction of meaning, not regurgitation of isolated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uthentic Assessm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focus on knowledge, thinking, &amp; skills seen in a real-life set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raditional Assessm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tests, quizz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 always ask myself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re do my students need to b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re are they now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can I help them close the gap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t the end of this class, you should be able t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termine why (purpose) you are assessing what (curriculum/standards) you are ass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 appropriate assessment metho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elop assessment methods appropriate for your instru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minister, score, and interpret the results of a teacher-produced assess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assessment results to make decisions about individual stud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elop valid student grading proced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 </a:t>
            </a: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C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ld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ft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hi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d state accoun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equate Yearly Progress (AYP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parental cho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A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te sets standa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te selects te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te indicates levels of proficien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vels of proficiency increase every 3 yea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higan Merit Ex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the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mi.go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ducation and Children’s Serv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ministrat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and Repor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AP Resul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AP Test Resul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ool &amp; District Summary Repor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ect a school distri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nt Fall 09 Grades 3-9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nt MME spring 200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Purpose of Assess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agnos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mm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nostic Assess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 student strengths/nee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lp plan for 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fore instruction begi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ool reco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bserv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-tes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estionnai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ive Assess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nitor grow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ring instru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bserv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izz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me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f-assess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estio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tive Assess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have students learn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ount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fter 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d of unit t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al project/perform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tewide tes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role of assessment in teach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ment documents what student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know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fluences lear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ment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F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ear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ment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f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ear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5" name="Group 17"/>
          <p:cNvGrpSpPr/>
          <p:nvPr/>
        </p:nvGrpSpPr>
        <p:grpSpPr>
          <a:xfrm>
            <a:off x="4185720" y="1676880"/>
            <a:ext cx="4923000" cy="4854240"/>
            <a:chOff x="4185720" y="1676880"/>
            <a:chExt cx="4923000" cy="4854240"/>
          </a:xfrm>
        </p:grpSpPr>
        <p:sp>
          <p:nvSpPr>
            <p:cNvPr id="156" name="AutoShape 16"/>
            <p:cNvSpPr/>
            <p:nvPr/>
          </p:nvSpPr>
          <p:spPr>
            <a:xfrm>
              <a:off x="4788720" y="2362320"/>
              <a:ext cx="3717000" cy="34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_s2068"/>
            <p:cNvSpPr/>
            <p:nvPr/>
          </p:nvSpPr>
          <p:spPr>
            <a:xfrm>
              <a:off x="4811040" y="2362320"/>
              <a:ext cx="3673080" cy="3483720"/>
            </a:xfrm>
            <a:prstGeom prst="pi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_s2069"/>
            <p:cNvSpPr/>
            <p:nvPr/>
          </p:nvSpPr>
          <p:spPr>
            <a:xfrm rot="7200000">
              <a:off x="4905360" y="2267640"/>
              <a:ext cx="3483720" cy="3673080"/>
            </a:xfrm>
            <a:prstGeom prst="pi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_s2071"/>
            <p:cNvSpPr/>
            <p:nvPr/>
          </p:nvSpPr>
          <p:spPr>
            <a:xfrm rot="14400000">
              <a:off x="4905360" y="2266920"/>
              <a:ext cx="3483720" cy="3673080"/>
            </a:xfrm>
            <a:prstGeom prst="pi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_s2066"/>
            <p:cNvSpPr/>
            <p:nvPr/>
          </p:nvSpPr>
          <p:spPr>
            <a:xfrm>
              <a:off x="7410600" y="2846520"/>
              <a:ext cx="1120320" cy="10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Asses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Stud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Understanding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_s2067"/>
            <p:cNvSpPr/>
            <p:nvPr/>
          </p:nvSpPr>
          <p:spPr>
            <a:xfrm>
              <a:off x="6086520" y="5023440"/>
              <a:ext cx="1120320" cy="10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Adjus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Instructio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_s2070"/>
            <p:cNvSpPr/>
            <p:nvPr/>
          </p:nvSpPr>
          <p:spPr>
            <a:xfrm>
              <a:off x="4761000" y="2846520"/>
              <a:ext cx="1120320" cy="10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Set Learning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Goal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1274400" y="457200"/>
            <a:ext cx="67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ndy"/>
              </a:rPr>
              <a:t>Keys to Quality Classroom Assessment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848520" y="1603440"/>
            <a:ext cx="2997000" cy="106956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hy Asses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urpos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o will use the result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562720" y="1447920"/>
            <a:ext cx="2835000" cy="137448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ess Wha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are the learning goa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e they clear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3513240" y="3505320"/>
            <a:ext cx="2160360" cy="106956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ess Ho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metho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3130560" y="5181480"/>
            <a:ext cx="3109680" cy="106956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municate Ho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nage informatio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port how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Line 22"/>
          <p:cNvSpPr/>
          <p:nvPr/>
        </p:nvSpPr>
        <p:spPr>
          <a:xfrm>
            <a:off x="1905120" y="289548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Line 23"/>
          <p:cNvSpPr/>
          <p:nvPr/>
        </p:nvSpPr>
        <p:spPr>
          <a:xfrm flipH="1">
            <a:off x="5791320" y="32767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457200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lu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pretation of what has been gather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dgments made about perform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criteria you are us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T relate to learning go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the research say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od instruction engages students in activ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s connect new information with existing knowled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fective assessment promotes this 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constantly assess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ive feedback is essent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18:19:03Z</dcterms:created>
  <dc:creator>emu</dc:creator>
  <dc:description/>
  <dc:language>en-US</dc:language>
  <cp:lastModifiedBy>EMU User</cp:lastModifiedBy>
  <dcterms:modified xsi:type="dcterms:W3CDTF">2010-09-13T11:10:03Z</dcterms:modified>
  <cp:revision>13</cp:revision>
  <dc:subject/>
  <dc:title>The role of assessment in teaching</dc:title>
</cp:coreProperties>
</file>